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43E-1E5F-42A2-83BA-37957357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03C-F546-4199-9843-00435912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7F1-8D9D-4AC7-8945-A69EE644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7D4-5077-430D-96B2-525B02A6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C34-EEAF-4E97-A6ED-A6A6EAB7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78C-A312-4F6A-BB55-D1FF16A0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6A5-7D2F-4A48-912A-D1F89D85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332-BC7F-484E-9EE9-BFE2080C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44E-380F-437A-8289-03F6F8FA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2D0-B01B-405F-A701-DEE87A9E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5DE-BD07-4627-A2C0-CD49CB6B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219-18BC-4494-A680-83529B08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BD83-888A-416B-8777-27BB6FDD4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reed.edu/cis/about/ipad_pilot/ipad_large"/>
          <p:cNvPicPr/>
          <p:nvPr/>
        </p:nvPicPr>
        <p:blipFill>
          <a:blip r:embed="rId1"/>
          <a:stretch/>
        </p:blipFill>
        <p:spPr>
          <a:xfrm>
            <a:off x="0" y="1523880"/>
            <a:ext cx="9155160" cy="5334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lackadder ITC"/>
              </a:rPr>
              <a:t>Apple iPad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971800" y="2133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By Jessica Y.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hiller"/>
              </a:rPr>
              <a:t>NEED</a:t>
            </a:r>
            <a:br>
              <a:rPr sz="4000"/>
            </a:br>
            <a:r>
              <a:rPr b="0" i="1" lang="en-US" sz="2500" spc="-1" strike="noStrike">
                <a:solidFill>
                  <a:srgbClr val="000000"/>
                </a:solidFill>
                <a:latin typeface="Chiller"/>
              </a:rPr>
              <a:t>What problem or need existed that gave rise to your innovation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#1 -To keep the company (Apple) at the forefront of the computer manufacturing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#2 - To be used in a variety of areas to offer an all-in-one package for connectivity, computing, gaming, and any other task you might think of” (Kessler, 2010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#3 - To replace the netbook and lap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To support Point #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img.timeinc.net/time/photoessays/2010/ipad_launch/ipad_01.jpg"/>
          <p:cNvPicPr/>
          <p:nvPr/>
        </p:nvPicPr>
        <p:blipFill>
          <a:blip r:embed="rId1"/>
          <a:stretch/>
        </p:blipFill>
        <p:spPr>
          <a:xfrm>
            <a:off x="3381480" y="3048120"/>
            <a:ext cx="5762520" cy="3809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76320" y="1143000"/>
            <a:ext cx="487656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hiller"/>
              </a:rPr>
              <a:t>Kessler (2010) says “The majority of Apple's advancements have seen a number of imitations crop up from other manufacturers, but Apple's solid implementations have keep them ahead of the game.”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25540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fore the iPad, there had been numerous attempts at developing the next “smaller and lighter” pro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hiller"/>
              </a:rPr>
              <a:t>RESEARCH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hiller"/>
              </a:rPr>
              <a:t>What research organization or people developed a solution to this problem or need? What were their findings? Who were the “lead thinkers” for this innovation, and how did they convince a manufacturer to produce it?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80880" y="422748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 the iPad, Apple “attempts to blend all the recent advancements in modern computing into one product” (Kessler, 2010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hiller"/>
              </a:rPr>
              <a:t>DEVELOPMENT</a:t>
            </a:r>
            <a:br>
              <a:rPr sz="4000"/>
            </a:br>
            <a:r>
              <a:rPr b="0" i="1" lang="en-US" sz="2500" spc="-1" strike="noStrike">
                <a:solidFill>
                  <a:srgbClr val="000000"/>
                </a:solidFill>
                <a:latin typeface="Chiller"/>
              </a:rPr>
              <a:t>What problems did your innovation encounter in the development process? Who was the intended audience for your innovation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114440" y="205740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very one of all ages are the intended target audience for the Apple iPad, as it has the capability to offer something for everyon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onsider these audienc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erson who rarely uses a computer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erson who are absolutely into gadgets and new technologie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book reader owners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Phone and iPod Touch user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c ow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itechgirl.com/wp-content/uploads/2011/03/Netflix-for-iPad.jpg"/>
          <p:cNvPicPr/>
          <p:nvPr/>
        </p:nvPicPr>
        <p:blipFill>
          <a:blip r:embed="rId1"/>
          <a:stretch/>
        </p:blipFill>
        <p:spPr>
          <a:xfrm>
            <a:off x="122400" y="2257560"/>
            <a:ext cx="39160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hiller"/>
              </a:rPr>
              <a:t>COMMERCIALIZATION</a:t>
            </a:r>
            <a:br>
              <a:rPr sz="4000"/>
            </a:br>
            <a:r>
              <a:rPr b="0" i="1" lang="en-US" sz="2500" spc="-1" strike="noStrike">
                <a:solidFill>
                  <a:srgbClr val="000000"/>
                </a:solidFill>
                <a:latin typeface="Chiller"/>
              </a:rPr>
              <a:t>Describe the production, manufacturing, packaging, marketing, and distribution of your innov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2680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ation from IHS iSuppli, a market research fir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80880" y="358632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Pad 2 Breakdown Estimates, according to All Things Digita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reless Baseband Ch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26.8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l (AT&amp;T) and Qualcomm (Verizon) A5 Processor Ch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4.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msung Touch-screen Displa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27.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G Flash and DRAM Memo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65.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shiba Gyroscope and Acceleromet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29.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Microelectronic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Estimated breakdown cos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$262.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Where Can You Purchase an iPa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pple.c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st Bu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lM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rge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erizon Wirel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T&amp;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applerepo.com/wp-content/uploads/ipad3.jpg"/>
          <p:cNvPicPr/>
          <p:nvPr/>
        </p:nvPicPr>
        <p:blipFill>
          <a:blip r:embed="rId1"/>
          <a:stretch/>
        </p:blipFill>
        <p:spPr>
          <a:xfrm>
            <a:off x="3505320" y="1447920"/>
            <a:ext cx="55958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erson, B. (2010). 14 problems with apple's ipad leading to failure. Retrieved October 5, 2011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ttp://www.infernodevelopment.com/14-problems-apples-ipad-leading-failu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ad 2 teardown: Where the parts come from; how much they’re worth. (n.d.). Retrieved October 5, 2011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ttp://wickedsago.blogspot.com/2011/03/ipad-2-teardown-where-parts-come-from.htm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ssler, T. (2010). Apple's latest creation: It's an ipad! Retrieved October 5, 2011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ttp://reviews.cnet.com/8301-13727_7-10442722-263.htm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te, K. (2011). The unveiling of apple's ipad tablet. Retrieved October 5, 2011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ttp://www.time.com/time/photogallery/0,29307,1957124_2029812,00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4:55:24Z</dcterms:created>
  <dc:creator>Lady J</dc:creator>
  <dc:description/>
  <dc:language>en-US</dc:language>
  <cp:lastModifiedBy>Lady J</cp:lastModifiedBy>
  <dcterms:modified xsi:type="dcterms:W3CDTF">2011-10-06T15:19:37Z</dcterms:modified>
  <cp:revision>1</cp:revision>
  <dc:subject/>
  <dc:title>Apple iPad</dc:title>
</cp:coreProperties>
</file>